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87188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9975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6420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65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65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65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65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65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65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656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74680"/>
            <a:ext cx="85471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9975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1056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5166720"/>
            <a:ext cx="871056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74680"/>
            <a:ext cx="85471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9975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5052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4520" y="1963440"/>
            <a:ext cx="425052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5166720"/>
            <a:ext cx="425052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04520" y="5166720"/>
            <a:ext cx="425052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74680"/>
            <a:ext cx="85471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9975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0440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6400" y="1963440"/>
            <a:ext cx="280440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1200" y="1963440"/>
            <a:ext cx="280440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5166720"/>
            <a:ext cx="280440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6400" y="5166720"/>
            <a:ext cx="280440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1200" y="5166720"/>
            <a:ext cx="280440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74680"/>
            <a:ext cx="85471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9975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1056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5520" indent="0" algn="ctr">
              <a:lnSpc>
                <a:spcPts val="741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74680"/>
            <a:ext cx="85471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9975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1056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74680"/>
            <a:ext cx="85471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9975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5052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04520" y="1963440"/>
            <a:ext cx="425052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74680"/>
            <a:ext cx="85471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9975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74680"/>
            <a:ext cx="85471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5520" indent="-155520" algn="ctr">
              <a:lnSpc>
                <a:spcPts val="741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74680"/>
            <a:ext cx="85471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9975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5052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4520" y="1963440"/>
            <a:ext cx="425052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5166720"/>
            <a:ext cx="425052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74680"/>
            <a:ext cx="85471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9975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5052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4520" y="1963440"/>
            <a:ext cx="425052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04520" y="5166720"/>
            <a:ext cx="425052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74680"/>
            <a:ext cx="85471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9975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5052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4520" y="1963440"/>
            <a:ext cx="425052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5166720"/>
            <a:ext cx="8710560" cy="29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413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74680"/>
            <a:ext cx="85471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9975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10560" cy="61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45240" indent="-270000">
              <a:lnSpc>
                <a:spcPts val="7413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6640" indent="-237600">
              <a:lnSpc>
                <a:spcPts val="7413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8400" indent="-175680">
              <a:lnSpc>
                <a:spcPts val="7413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549800" indent="-151920">
              <a:lnSpc>
                <a:spcPts val="7413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1951560" indent="-180000">
              <a:lnSpc>
                <a:spcPts val="7413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1951560" indent="-180000">
              <a:lnSpc>
                <a:spcPts val="7413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1951560" indent="-180000">
              <a:lnSpc>
                <a:spcPts val="7413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5888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new produc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5520" indent="0" algn="ctr">
              <a:lnSpc>
                <a:spcPct val="154000"/>
              </a:lnSpc>
              <a:buNone/>
              <a:tabLst>
                <a:tab algn="l" pos="0"/>
                <a:tab algn="l" pos="155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172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Nexedi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155520" indent="0" algn="ctr">
              <a:lnSpc>
                <a:spcPts val="7413"/>
              </a:lnSpc>
              <a:buNone/>
              <a:tabLst>
                <a:tab algn="l" pos="0"/>
                <a:tab algn="l" pos="155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172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155520" indent="0" algn="ctr">
              <a:lnSpc>
                <a:spcPts val="7413"/>
              </a:lnSpc>
              <a:buNone/>
              <a:tabLst>
                <a:tab algn="l" pos="0"/>
                <a:tab algn="l" pos="155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172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a bunch of great ideas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155520" indent="0" algn="ctr">
              <a:lnSpc>
                <a:spcPts val="7413"/>
              </a:lnSpc>
              <a:buNone/>
              <a:tabLst>
                <a:tab algn="l" pos="0"/>
                <a:tab algn="l" pos="155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172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pure magic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5520" indent="0">
              <a:lnSpc>
                <a:spcPct val="159000"/>
              </a:lnSpc>
              <a:buNone/>
              <a:tabLst>
                <a:tab algn="l" pos="0"/>
                <a:tab algn="l" pos="15552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Long-term Goal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1520" indent="-290520">
              <a:lnSpc>
                <a:spcPct val="154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tate the intended goa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5520" indent="0">
              <a:lnSpc>
                <a:spcPct val="159000"/>
              </a:lnSpc>
              <a:buNone/>
              <a:tabLst>
                <a:tab algn="l" pos="0"/>
                <a:tab algn="l" pos="15552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ustomer Wish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1520" indent="-290520">
              <a:lnSpc>
                <a:spcPct val="154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escribe customer needs and wish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71520" indent="-290520">
              <a:lnSpc>
                <a:spcPts val="7413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xplain the requirement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-77760"/>
            <a:ext cx="8609040" cy="19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5520" indent="0">
              <a:lnSpc>
                <a:spcPct val="159000"/>
              </a:lnSpc>
              <a:buNone/>
              <a:tabLst>
                <a:tab algn="l" pos="0"/>
                <a:tab algn="l" pos="15552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Fulfilling </a:t>
            </a:r>
            <a:br>
              <a:rPr sz="4000"/>
            </a:b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ustomer Need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1520" indent="-290520">
              <a:lnSpc>
                <a:spcPct val="154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escribe the main attributes of the produc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71520" indent="-290520">
              <a:lnSpc>
                <a:spcPts val="7413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ink the product attributes to customer need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5520" indent="0">
              <a:lnSpc>
                <a:spcPct val="159000"/>
              </a:lnSpc>
              <a:buNone/>
              <a:tabLst>
                <a:tab algn="l" pos="0"/>
                <a:tab algn="l" pos="15552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st Analysi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1520" indent="-290520">
              <a:lnSpc>
                <a:spcPct val="154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dicate the financial advantages for the custom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71520" indent="-290520">
              <a:lnSpc>
                <a:spcPts val="7413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mpare quality and price with those of the competi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5520" indent="0">
              <a:lnSpc>
                <a:spcPct val="159000"/>
              </a:lnSpc>
              <a:buNone/>
              <a:tabLst>
                <a:tab algn="l" pos="0"/>
                <a:tab algn="l" pos="15552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trengths and Advantag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1520" indent="-290520">
              <a:lnSpc>
                <a:spcPct val="154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ummarize the special features and advantages of the product being introduc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5520" indent="0">
              <a:lnSpc>
                <a:spcPct val="159000"/>
              </a:lnSpc>
              <a:buNone/>
              <a:tabLst>
                <a:tab algn="l" pos="0"/>
                <a:tab algn="l" pos="155520"/>
                <a:tab algn="l" pos="60336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Next Steps of Act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1520" indent="-290520">
              <a:lnSpc>
                <a:spcPct val="154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xplain the steps that now need to be tak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General introduction of a new product taking customer wishes into account</dc:description>
  <dc:language>en-US</dc:language>
  <cp:lastModifiedBy/>
  <cp:revision>0</cp:revision>
  <dc:subject/>
  <dc:title/>
</cp:coreProperties>
</file>